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media/chimes.wav" ContentType="audio/x-wav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D573-D25E-4C7C-84BC-9A42BD881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EDFE-37D7-41F0-9821-AC301613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CCD8-643F-4DE8-B346-C3F5488CC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9EB7-6B4D-464D-AB92-86679F75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A5AA-D9FA-48D2-82B0-ED6921FC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93AD-A102-4B01-A18C-8D43C928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5F4A-8003-44CB-ADC8-CFD19937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8A34-DE4D-4C1B-ABA7-02A87BE0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4E92-28C5-403A-B2BD-DF957BAD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620C-E556-4924-B82F-E2766B14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56CB-3E6F-47C7-9493-58DAB581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DA94-2D2D-4A79-8564-E81D8633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22F0-026E-4B33-87EB-A2AFEE59E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440" y="380880"/>
            <a:ext cx="5638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olving Two Step Algebraic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472428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inda Or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505320" y="2914560"/>
            <a:ext cx="43434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57600" y="1752480"/>
            <a:ext cx="1371600" cy="1600200"/>
          </a:xfrm>
          <a:prstGeom prst="ellipse">
            <a:avLst/>
          </a:prstGeom>
          <a:solidFill>
            <a:srgbClr val="ffff00">
              <a:alpha val="68000"/>
            </a:srgbClr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9880" y="236232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00"/>
                </a:solidFill>
                <a:latin typeface="Arial"/>
              </a:rPr>
              <a:t>+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you solve if there is more than one ste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590920" y="1828800"/>
                <a:ext cx="388620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228600" y="1295280"/>
            <a:ext cx="1981080" cy="20142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, you have to get all the numbers on one side of the equation and all the variables on the othe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2743200"/>
            <a:ext cx="3809880" cy="64260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need to get rid of the -7 by doing the opposite function (+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1752480"/>
            <a:ext cx="137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00"/>
                </a:solidFill>
                <a:latin typeface="Arial"/>
              </a:rPr>
              <a:t>+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5053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ate and rewrite the equ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429000" y="3886200"/>
                <a:ext cx="27255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04920" y="3657600"/>
            <a:ext cx="1752480" cy="11912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w do the second step.  Divide both sides b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472428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472428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45720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257800" y="46483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962520"/>
            <a:ext cx="609840" cy="685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1280" y="4724280"/>
            <a:ext cx="609840" cy="685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5181480"/>
            <a:ext cx="137160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’s can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5867280"/>
            <a:ext cx="228600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write and so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733920" y="5562720"/>
                <a:ext cx="191448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86200" y="1828800"/>
            <a:ext cx="1066680" cy="1523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62520" y="251460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-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733920" y="3581280"/>
                <a:ext cx="170820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5791320" y="19810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-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666880" y="3962520"/>
                <a:ext cx="9637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486400" y="4038480"/>
                <a:ext cx="9637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809880" y="5486400"/>
                <a:ext cx="144792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2590920" y="34290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ate and rewrite the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90920" y="4038480"/>
            <a:ext cx="761760" cy="533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4648320"/>
            <a:ext cx="761760" cy="5331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4572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’s can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200400" y="1600200"/>
                <a:ext cx="2666880" cy="16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514600" y="1143000"/>
                <a:ext cx="3657600" cy="17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2514600" y="22096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+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72200" y="15238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+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19520" y="1523880"/>
            <a:ext cx="838080" cy="685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43200" y="2286000"/>
            <a:ext cx="838080" cy="685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657600" y="3219480"/>
                <a:ext cx="190512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2666880" y="350532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5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86400" y="350532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x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3657600"/>
            <a:ext cx="685800" cy="609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33920" y="4038480"/>
            <a:ext cx="685800" cy="533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429000" y="4800600"/>
                <a:ext cx="21337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3429000" y="5410080"/>
            <a:ext cx="914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24280" y="5410080"/>
            <a:ext cx="914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533412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52880" y="533412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886200" y="6095880"/>
                <a:ext cx="137160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3276720" y="4876920"/>
            <a:ext cx="60948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81280" y="5486400"/>
            <a:ext cx="60984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SenteoPPTControl1"/>
          <p:cNvGraphicFramePr/>
          <p:nvPr/>
        </p:nvGraphicFramePr>
        <p:xfrm>
          <a:off x="6350040" y="4699080"/>
          <a:ext cx="273060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SenteoPPTControl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040" y="4699080"/>
                    <a:ext cx="27306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762120" y="457200"/>
                <a:ext cx="7740360" cy="14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0" y="2362320"/>
            <a:ext cx="6019920" cy="32364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rst step in solving this equation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4 to both sides of the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tract 4 from both sides of the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ide both sides of the equation by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y both sides of the equation by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rect! Add 4 to both sides of the equation.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762120" y="1752480"/>
                <a:ext cx="7740360" cy="14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21:26:15Z</dcterms:created>
  <dc:creator>admin</dc:creator>
  <dc:description/>
  <dc:language>en-US</dc:language>
  <cp:lastModifiedBy>admin</cp:lastModifiedBy>
  <dcterms:modified xsi:type="dcterms:W3CDTF">2008-03-21T11:52:23Z</dcterms:modified>
  <cp:revision>10</cp:revision>
  <dc:subject/>
  <dc:title>Solving Two Step Algebraic Equations</dc:title>
</cp:coreProperties>
</file>